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B2A8-F9FD-4B56-84AC-D08208EC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5D3-166C-430C-AFE7-FED9D425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350-D7BA-4EAD-B499-F5AC9C8B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724-7405-4BC8-9E46-03B3F434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AD0B-8B22-4F7B-8F24-D65BD1F2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63A7-6595-4DBA-8C01-0A6153E4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99FE-6B7A-4D7B-97AB-043DA99D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3BC1-E07A-4E81-B959-A1764321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6A1F-694B-4FDF-90C6-160AC586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E3CF-7FA3-4BB6-BEDE-38950D65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3DBF-F377-4DB0-8AC4-EE0EBC96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178-8DC3-4955-8AD3-55757D21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6128-3528-4DD2-BC1F-CF135B28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78E4-FA7D-4A94-BC2D-8B9545E2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7AFD-96C3-4E1C-970F-E486B2D8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3B5E-7ECC-4C6D-ABDE-C20212A3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FEDA-D97B-4A28-B902-96A292E7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902C2-5B46-466A-90AB-91CAE8D6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1AB1D-DB5D-486A-BD74-BB2AF56C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84C9-5C78-4A13-A033-91019C93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0727F-A8ED-4F36-8FC3-C0F76782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F10F2-485D-4747-A4B5-6F246219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FE86-AF4A-4211-86CE-1F78C9E5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1FDF-EDF7-49C1-92BC-835C8FD7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59D2E-0CF0-496D-A0B7-BBFCB4FB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3463-F1B1-47FA-9E99-B467E700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2ED9-6B8E-471D-A0A0-0BC4BF68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22849-67B0-46A3-9085-793BAD37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908E5-767B-464D-AA3B-42CB4B33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8C598-F833-4EB5-ACF0-00D3B051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6C86E-FF06-4E33-8C45-9043AC82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9C09F-3C62-4BFE-9F90-7206D519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C179C-6C34-49F3-9D1D-9AB236B8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FA7-ABD0-46FB-9780-F8FEE38D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BAD2B-4A01-47D7-A921-5E609909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4C8F8-BEAC-43FA-9F8A-CFC8511E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1E5E4-88D2-4565-8131-FD148462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FAAB6-5136-465C-82DB-155CDCE0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34CD7-DDAD-42C4-989A-7402415F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F7401-6B4E-4862-8094-41ED0EDF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8B18B-FE6A-4478-B1CE-AE51DC52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138C3-9692-4605-A7A8-9213E39B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4A986-C2F2-4032-ABAE-45345C03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54852-751A-469A-8E24-21D3FE43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015-1DD3-4443-95B3-4A60D375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73A18-495E-42BE-ABF3-9AB8FF77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65F51-F495-4D8A-8D6D-03064E09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58CF9-B7FB-4D17-A3DF-22D4318F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3A66D-C0A7-4514-9BB5-D15E7E18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81755-56CB-4C1D-966B-E8386FA1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0B22C-E841-4166-90C2-628C9520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EC0C2-0199-4EEC-A034-15E014D0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30D5E-F202-4CA5-ADBA-B7611B39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E2D32-117D-4A2E-9BA5-3BE5ECE5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9CCA4-63AB-47BB-BD5A-4301BA45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C65-F16A-4EA8-B3B6-CA8401DE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EC92D-B549-48CB-B3F6-B0F1AF81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551A5-3B67-44D6-A090-3B86A934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7C99C-E344-4E14-8845-1C1E7858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73809-BACD-4891-AD5F-41F556E8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FB668-B91C-45FE-81DB-3DD57E85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04CF7-5961-4191-908D-BC02B5C2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724CD-A458-4B35-9C6B-CBFEDC83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BDF13-49E6-4A95-81BF-71E2159E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6540A-734C-4D03-8FDB-A5509FF2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6A894-994D-4CF5-B56E-CBF35BCE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6CD-1801-413F-A961-393159E5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A3712-22E7-40D1-AADB-FB0FA9A8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2E356-FB16-44BA-BE50-BC69C8A9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D73D3-3880-4433-B332-ED8AD306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81BCB-7E05-4309-8F62-382D7403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BD09B-E039-4B90-A25F-E04BC9EE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A972A-1296-4FBA-9A81-B88D7D53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A5972-3B5D-4343-BB19-7FD8842B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0E763-B982-491F-999C-D42777EF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B5084-083C-4A4B-8F95-AA274351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FC08D-D282-44EF-A60F-8B805075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529-2B36-42D7-A705-3675B050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C76E3-5EF8-4E5A-87B0-A827ABFB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83B20-867E-4639-8908-CB7384A5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3FCA4-C8A7-467F-9FFB-0BBEC4EB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6472B-5CDF-4EA7-AC38-A5D5DB8F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B05D9-74B5-4D09-A41D-4A68EFB3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530-BCE1-4D1F-A0D5-146141CE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FAEB-33D0-4596-B41E-B9BDABF44F58}" type="slidenum"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A3C2-359D-4A49-BA2E-02F6967208EC}" type="slidenum"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926A-EFCC-4508-AA4B-AFBDB2D5F30A}" type="slidenum"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0714-FA5B-4C08-AED0-044B528B00F5}" type="slidenum"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3C65-E59F-460C-AAA2-F0C76443107F}" type="slidenum"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663D-C51A-49D3-9F06-057ED6C87526}" type="slidenum"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217D-F930-4816-A134-521DC1C1AA2A}" type="slidenum">
              <a:rPr b="0" lang="en-US" sz="1200" spc="-1" strike="noStrike">
                <a:solidFill>
                  <a:srgbClr val="8daecb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Logo Design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3143"/>
                </a:solidFill>
                <a:latin typeface="Gill Sans MT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2760840" y="1752480"/>
            <a:ext cx="484164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2362320" y="1920960"/>
            <a:ext cx="56386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0" t="0" r="0" b="32011"/>
          <a:stretch/>
        </p:blipFill>
        <p:spPr>
          <a:xfrm>
            <a:off x="3276720" y="2346480"/>
            <a:ext cx="38098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3441600" y="2057400"/>
            <a:ext cx="34797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2158920" y="1905120"/>
            <a:ext cx="60451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2387520" y="2743200"/>
            <a:ext cx="558792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rcRect l="0" t="0" r="74091" b="0"/>
          <a:stretch/>
        </p:blipFill>
        <p:spPr>
          <a:xfrm>
            <a:off x="2895480" y="1739880"/>
            <a:ext cx="410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968480" y="1563840"/>
            <a:ext cx="5956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3508200" y="1773360"/>
            <a:ext cx="28767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John Deer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rcRect l="23199" t="0" r="23350" b="27997"/>
          <a:stretch/>
        </p:blipFill>
        <p:spPr>
          <a:xfrm>
            <a:off x="2724120" y="1690560"/>
            <a:ext cx="491508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rcRect l="23199" t="0" r="23350" b="27997"/>
          <a:stretch/>
        </p:blipFill>
        <p:spPr>
          <a:xfrm>
            <a:off x="2724120" y="1690560"/>
            <a:ext cx="491508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Mercedes Benz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928960" y="1752480"/>
            <a:ext cx="450540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PB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rcRect l="0" t="0" r="0" b="5695"/>
          <a:stretch/>
        </p:blipFill>
        <p:spPr>
          <a:xfrm>
            <a:off x="2971800" y="1671480"/>
            <a:ext cx="441972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Appl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2631960" y="2057400"/>
            <a:ext cx="50990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Targe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2895480" y="1728720"/>
            <a:ext cx="45720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McDonald’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917800" y="1752480"/>
            <a:ext cx="452772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Adida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rcRect l="0" t="9897" r="0" b="33341"/>
          <a:stretch/>
        </p:blipFill>
        <p:spPr>
          <a:xfrm>
            <a:off x="1779480" y="1828800"/>
            <a:ext cx="68040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arhar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rcRect l="0" t="0" r="0" b="19594"/>
          <a:stretch/>
        </p:blipFill>
        <p:spPr>
          <a:xfrm>
            <a:off x="1600200" y="1611360"/>
            <a:ext cx="54338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AT&amp;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2760840" y="1752480"/>
            <a:ext cx="484164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Batman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2362320" y="1920960"/>
            <a:ext cx="56386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Atari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rcRect l="0" t="0" r="0" b="32011"/>
          <a:stretch/>
        </p:blipFill>
        <p:spPr>
          <a:xfrm>
            <a:off x="3276720" y="2346480"/>
            <a:ext cx="38098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2928960" y="1752480"/>
            <a:ext cx="450540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Netscap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3441600" y="2057400"/>
            <a:ext cx="34797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Penn Stat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2158920" y="1905120"/>
            <a:ext cx="60451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Nik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2387520" y="2743200"/>
            <a:ext cx="558792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Obama Campaign ‘08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rcRect l="0" t="0" r="74091" b="0"/>
          <a:stretch/>
        </p:blipFill>
        <p:spPr>
          <a:xfrm>
            <a:off x="2895480" y="1739880"/>
            <a:ext cx="410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Michael Jackson Production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968480" y="1563840"/>
            <a:ext cx="5956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Dr. Seus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3508200" y="1773360"/>
            <a:ext cx="28767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Evolution of the Pepsi Logo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371240" y="1447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90" name="ShockwaveFlash1"/>
          <p:cNvGraphicFramePr/>
          <p:nvPr/>
        </p:nvGraphicFramePr>
        <p:xfrm>
          <a:off x="1371600" y="1447920"/>
          <a:ext cx="74674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7467480" cy="5029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Why redesign a logo?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w leadershi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ancial reas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spective analysis of the mark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rg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do you get when FedEx and UPS merg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edUP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How to create a logo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gure grou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terfor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tr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age fie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rcep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Lin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way in which a line is drawn can evoke different moods or meaning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ight angles produce a very sharp and potentially dangerous situation, whereas a soft, sensuous line implies a gentle, nonaggressive attitud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0" name="Picture 5" descr=""/>
          <p:cNvPicPr/>
          <p:nvPr/>
        </p:nvPicPr>
        <p:blipFill>
          <a:blip r:embed="rId1"/>
          <a:srcRect l="8062" t="23205" r="9826" b="10166"/>
          <a:stretch/>
        </p:blipFill>
        <p:spPr>
          <a:xfrm>
            <a:off x="1295280" y="5105520"/>
            <a:ext cx="3886200" cy="1752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1828800" y="3657600"/>
            <a:ext cx="26748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rcRect l="0" t="0" r="0" b="5695"/>
          <a:stretch/>
        </p:blipFill>
        <p:spPr>
          <a:xfrm>
            <a:off x="2971800" y="1671480"/>
            <a:ext cx="441972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Shap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square is the most visually stable. Next are the circle and the triangl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tangles, both horizontal and vertical, and ellipses are the most visually unstabl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5" name="Picture 5" descr=""/>
          <p:cNvPicPr/>
          <p:nvPr/>
        </p:nvPicPr>
        <p:blipFill>
          <a:blip r:embed="rId1"/>
          <a:stretch/>
        </p:blipFill>
        <p:spPr>
          <a:xfrm>
            <a:off x="1523880" y="4005360"/>
            <a:ext cx="3733920" cy="2073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5257800" y="4191120"/>
            <a:ext cx="36352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Figure Ground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positive and negative shapes interact to provide a mental puzzl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5791320" y="1143000"/>
            <a:ext cx="2628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Pattern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creating a pattern using geometric shapes, it is tempting to create a pattern using elements of the trademark. This leads to a less unique log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486400" y="1219320"/>
            <a:ext cx="3271680" cy="1817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5203800" y="3124080"/>
            <a:ext cx="3703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Letterform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ing common letterforms to create unique configurations can create simple, but effective log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6" name="Picture 5" descr=""/>
          <p:cNvPicPr/>
          <p:nvPr/>
        </p:nvPicPr>
        <p:blipFill>
          <a:blip r:embed="rId1"/>
          <a:stretch/>
        </p:blipFill>
        <p:spPr>
          <a:xfrm>
            <a:off x="5638680" y="990720"/>
            <a:ext cx="2811600" cy="1562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"/>
          <p:cNvPicPr/>
          <p:nvPr/>
        </p:nvPicPr>
        <p:blipFill>
          <a:blip r:embed="rId2"/>
          <a:srcRect l="22050" t="36555" r="18559" b="38799"/>
          <a:stretch/>
        </p:blipFill>
        <p:spPr>
          <a:xfrm>
            <a:off x="5943600" y="2819520"/>
            <a:ext cx="2590920" cy="838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3"/>
          <a:srcRect l="0" t="37906" r="0" b="27362"/>
          <a:stretch/>
        </p:blipFill>
        <p:spPr>
          <a:xfrm>
            <a:off x="2209680" y="5181480"/>
            <a:ext cx="5923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ontras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ariations of the letterform weight and size also help create a subtle meaning in the wordmark that could not be obtained otherwis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5105520" y="609480"/>
            <a:ext cx="3733560" cy="2075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2971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Image Field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area around the object can define it as well as a literal drawing of i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5486400" y="990720"/>
            <a:ext cx="3292560" cy="18288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4114800" cy="2286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3"/>
          <a:stretch/>
        </p:blipFill>
        <p:spPr>
          <a:xfrm>
            <a:off x="1828800" y="4191120"/>
            <a:ext cx="32227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Perception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ple linear and geometric forms can convey completely different meanings with the slightest modificatio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5334120" y="685800"/>
            <a:ext cx="3429000" cy="190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"/>
          <p:cNvPicPr/>
          <p:nvPr/>
        </p:nvPicPr>
        <p:blipFill>
          <a:blip r:embed="rId2"/>
          <a:stretch/>
        </p:blipFill>
        <p:spPr>
          <a:xfrm>
            <a:off x="5410080" y="2455920"/>
            <a:ext cx="3353040" cy="1861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"/>
          <p:cNvPicPr/>
          <p:nvPr/>
        </p:nvPicPr>
        <p:blipFill>
          <a:blip r:embed="rId3"/>
          <a:stretch/>
        </p:blipFill>
        <p:spPr>
          <a:xfrm>
            <a:off x="5867280" y="4191120"/>
            <a:ext cx="2934000" cy="1630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"/>
          <p:cNvPicPr/>
          <p:nvPr/>
        </p:nvPicPr>
        <p:blipFill>
          <a:blip r:embed="rId4"/>
          <a:srcRect l="0" t="29833" r="0" b="38799"/>
          <a:stretch/>
        </p:blipFill>
        <p:spPr>
          <a:xfrm>
            <a:off x="1600200" y="5029200"/>
            <a:ext cx="4362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riteria for Developmen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ll it stand out in its surroundings to provide quick and memorable identifica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well can the symbol be used in a variety of applicatio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7010280" y="2514600"/>
            <a:ext cx="17892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riteria for Developmen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tinctiven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ll the application distinguish itself from its competitio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mplicity/Universal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s the symbol’s concept easy to identif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ten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a symbol is too easy to read, the viewer will feel no sense of discovery and thus no personal equity with the mar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1"/>
          <a:srcRect l="0" t="25815" r="0" b="22585"/>
          <a:stretch/>
        </p:blipFill>
        <p:spPr>
          <a:xfrm>
            <a:off x="6172200" y="2895480"/>
            <a:ext cx="1181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riteria for Developmen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good symbol must work in a number of technologi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criptiven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the symbol reveal to some extent the nature of the company or produc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melessn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2" name="Picture 6" descr=""/>
          <p:cNvPicPr/>
          <p:nvPr/>
        </p:nvPicPr>
        <p:blipFill>
          <a:blip r:embed="rId1"/>
          <a:srcRect l="16271" t="29289" r="15998" b="26833"/>
          <a:stretch/>
        </p:blipFill>
        <p:spPr>
          <a:xfrm>
            <a:off x="5232240" y="2876400"/>
            <a:ext cx="32259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2631960" y="2057400"/>
            <a:ext cx="50990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riteria for Developmen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ll the potential mark be adaptable to numerous applicatio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age, use, and recognition of a mark is also a primary consideration in its developmen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5" name="Picture 7" descr=""/>
          <p:cNvPicPr/>
          <p:nvPr/>
        </p:nvPicPr>
        <p:blipFill>
          <a:blip r:embed="rId1"/>
          <a:stretch/>
        </p:blipFill>
        <p:spPr>
          <a:xfrm>
            <a:off x="4800600" y="5486400"/>
            <a:ext cx="2666880" cy="10126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"/>
          <p:cNvPicPr/>
          <p:nvPr/>
        </p:nvPicPr>
        <p:blipFill>
          <a:blip r:embed="rId2"/>
          <a:srcRect l="21688" t="13001" r="20491" b="17611"/>
          <a:stretch/>
        </p:blipFill>
        <p:spPr>
          <a:xfrm>
            <a:off x="6058080" y="2666880"/>
            <a:ext cx="2171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Three Categories of logo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criptive Mark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visual imagery relating to the clients product or servic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ymbolic Mark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kes the descriptive mark one step further, literally incorporating a figurative elemen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ypographic Mark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terforms as a starting poin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rcRect l="0" t="23998" r="0" b="20011"/>
          <a:stretch/>
        </p:blipFill>
        <p:spPr>
          <a:xfrm>
            <a:off x="5562720" y="2590920"/>
            <a:ext cx="1904760" cy="10666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"/>
          <p:cNvPicPr/>
          <p:nvPr/>
        </p:nvPicPr>
        <p:blipFill>
          <a:blip r:embed="rId2"/>
          <a:stretch/>
        </p:blipFill>
        <p:spPr>
          <a:xfrm>
            <a:off x="5181480" y="1143000"/>
            <a:ext cx="990720" cy="993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"/>
          <p:cNvPicPr/>
          <p:nvPr/>
        </p:nvPicPr>
        <p:blipFill>
          <a:blip r:embed="rId3"/>
          <a:stretch/>
        </p:blipFill>
        <p:spPr>
          <a:xfrm>
            <a:off x="5638680" y="4800600"/>
            <a:ext cx="14097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ase Study / Proces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same Worksho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iginal Log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w Log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al Log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2676600" cy="1066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"/>
          <p:cNvPicPr/>
          <p:nvPr/>
        </p:nvPicPr>
        <p:blipFill>
          <a:blip r:embed="rId3"/>
          <a:srcRect l="0" t="12866" r="0" b="22988"/>
          <a:stretch/>
        </p:blipFill>
        <p:spPr>
          <a:xfrm>
            <a:off x="1752480" y="3733920"/>
            <a:ext cx="2009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Logotype Sketche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4092480" y="1219320"/>
            <a:ext cx="2184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A Creative Mark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895480" y="3568680"/>
            <a:ext cx="3814920" cy="2984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381024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895480" y="1728720"/>
            <a:ext cx="45720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2917800" y="1752480"/>
            <a:ext cx="452772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rcRect l="0" t="9897" r="0" b="33341"/>
          <a:stretch/>
        </p:blipFill>
        <p:spPr>
          <a:xfrm>
            <a:off x="1779480" y="1828800"/>
            <a:ext cx="68040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0" r="0" b="19594"/>
          <a:stretch/>
        </p:blipFill>
        <p:spPr>
          <a:xfrm>
            <a:off x="1600200" y="1611360"/>
            <a:ext cx="54338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22:43:59Z</dcterms:created>
  <dc:creator>Tina</dc:creator>
  <dc:description/>
  <dc:language>en-US</dc:language>
  <cp:lastModifiedBy>Tina</cp:lastModifiedBy>
  <dcterms:modified xsi:type="dcterms:W3CDTF">2009-09-17T02:02:22Z</dcterms:modified>
  <cp:revision>88</cp:revision>
  <dc:subject/>
  <dc:title>Logo Design</dc:title>
</cp:coreProperties>
</file>